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CCC-760D-4FC4-826C-C4C5A5D6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6A8-5AEE-4D62-B45B-2EAE19DE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226-081E-4CB6-ACFE-BCF0EB50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A8E-B858-4EAF-BE0A-B7005D31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DD2D-9CCD-4790-97F8-9B73C3FB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CB21-0411-4065-B2B5-11774B1A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D311-4D73-40B4-B69D-A164C8A6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C851-80EF-4233-BE8F-5497AD6B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9391-4BFA-4870-BF8F-18E78DA9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E70D-1132-4E91-8153-07D018D6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243A-707E-4D63-9D40-3A2A36E7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404-4699-4E16-B7A0-6567A7C8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0183-6445-46CC-ADB1-F1184AE2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AE1F-DC7F-404B-B5A0-9080C7BB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BF08-1566-4AB1-92F2-59645DE1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60CC-273A-4403-ABB7-3F525D8D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D468-88D4-46ED-BFCF-2430282F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51CB-AD37-4B5D-9C95-51760299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BB9-9631-4D14-A6E7-7A80F490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062-4866-4F58-90AE-1DD8B5EC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D57-E8F0-43B2-A577-583A0AA3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AA8-6F47-46A3-8842-69E6E0FE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23B-74C7-4C9F-950C-80CA223A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954-B0EF-4861-ACF2-1A51815B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E4E9-2C17-431E-A23D-50736E1FD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F732-296C-4CDB-A27F-D004B65D3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29400" y="304920"/>
            <a:ext cx="545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Ravie"/>
              </a:rPr>
              <a:t>Commo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Ravie"/>
              </a:rPr>
              <a:t>Error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Ravie"/>
              </a:rPr>
              <a:t>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Ravie"/>
              </a:rPr>
              <a:t>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Ravie"/>
              </a:rPr>
              <a:t>Stateme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380880"/>
            <a:ext cx="77724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This is YOUR ess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The opinions expressed will obviously be YOUR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380880"/>
            <a:ext cx="77724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Be Forceful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Be Direct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Show Conviction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53352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My opinion is the federal government should devote more money to solar energy rese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419112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e federal government should devote more money to solar energy rese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53352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My thesis states the federal government should devote more money to solar energy rese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419112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e federal government should devote more money to solar energy rese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0720" y="53352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In this essay I will present lots of reasons why horse racing should not be legalized in Tex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41911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Horse racing should not be legalized in Tex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90720" y="304920"/>
            <a:ext cx="777240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33"/>
                </a:solidFill>
                <a:latin typeface="Cooper Black"/>
              </a:rPr>
              <a:t>Don’t be unreason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cc33"/>
                </a:solidFill>
                <a:latin typeface="Cooper Black"/>
              </a:rPr>
              <a:t>Don’t insult any readers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cc33"/>
                </a:solidFill>
                <a:latin typeface="Cooper Black"/>
              </a:rPr>
              <a:t>Making irrational or oversimplified claims will not convince your readers that you have a thorough understanding of the issue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228600"/>
            <a:ext cx="77724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33"/>
                </a:solidFill>
                <a:latin typeface="Cooper Black"/>
              </a:rPr>
              <a:t>Don’t insult any reader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33"/>
                </a:solidFill>
                <a:latin typeface="Cooper Black"/>
              </a:rPr>
              <a:t>Avoid irresponsible charges and</a:t>
            </a:r>
            <a:r>
              <a:rPr b="0" lang="en-US" sz="2400" spc="-1" strike="noStrike">
                <a:solidFill>
                  <a:srgbClr val="33cc33"/>
                </a:solidFill>
                <a:latin typeface="Cooper Black"/>
              </a:rPr>
              <a:t>                              </a:t>
            </a:r>
            <a:r>
              <a:rPr b="0" lang="en-US" sz="4800" spc="-1" strike="noStrike">
                <a:solidFill>
                  <a:srgbClr val="33cc33"/>
                </a:solidFill>
                <a:latin typeface="Cooper Black"/>
              </a:rPr>
              <a:t>name call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22860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Radical religious fanatics across the nation are trying to impose their right-wing views by censoring high school library boo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90720" y="22860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Words such as “radical,” “fanatics,” “right-wing,” and “censoring” will antagonize many readers immediately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e paper will fail because it won’t be re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22860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Only local school board members--not religious leaders or parents--should decide which books high school libraries should ord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46483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States the same viewpoint objective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90720" y="1447920"/>
            <a:ext cx="784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Here are five mistakes to avoid when writing your </a:t>
            </a:r>
            <a:r>
              <a:rPr b="0" lang="en-US" sz="4800" spc="-1" strike="noStrike">
                <a:solidFill>
                  <a:srgbClr val="ff0066"/>
                </a:solidFill>
                <a:latin typeface="Cooper Black"/>
              </a:rPr>
              <a:t>thesis statements</a:t>
            </a: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30492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oo many corrupt books in our high school libraries selected by liberal, atheistic educators are undermining the morals of our you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51055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Again, many readers will find this offens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30492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o ensure that high school libraries contain books that reflect community standards, parents should have a voice in selecting new tit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6483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States the same viewpoint objective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609480"/>
            <a:ext cx="7772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Cooper Black"/>
              </a:rPr>
              <a:t>Don’t merely state a fact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Cooper Black"/>
              </a:rPr>
              <a:t>A thesis is an assertion of opinion that leads to discussion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Cooper Black"/>
              </a:rPr>
              <a:t>Don’t select an idea that is self-evident or dead-en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8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90720" y="2286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Child abuse is a terrible probl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4290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Yes, of course, who wouldn’t agree that child abuse is terrible.  Dead end for the discus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0720" y="22860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Child abuse laws in this state are too lenient for repeat offend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97180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is thesis will lead to a discussion in which supporting arguments and evidence will be presen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90720" y="22860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Advertisers often use attractive models in their ads to sell produc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895480"/>
            <a:ext cx="7543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rue, but rather obvious.  How could this essay be turned into something more than a list describing one ad after anot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228600"/>
            <a:ext cx="7772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Comic Sans MS"/>
              </a:rPr>
              <a:t>A number of liquor advertisers, well known for using pictures of attractive models to sell their products, are now using special graphics to send subliminal messages to their read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457200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This claim is controversial and will require persuasive supporting evid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90720" y="228600"/>
            <a:ext cx="77724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Comic Sans MS"/>
              </a:rPr>
              <a:t>Although long criticized for their negative portrayal of women in television commercials, the auto industry is just as often guilty of stereotyping men as brainless idiots unable to make a decis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937040"/>
            <a:ext cx="75438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66"/>
                </a:solidFill>
                <a:latin typeface="Comic Sans MS"/>
              </a:rPr>
              <a:t>This thesis makes a point that may lead to an interesting discuss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90720" y="19969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Cooper Black"/>
              </a:rPr>
              <a:t>Don’t express your thesis in the form of a ques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90720" y="22860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99"/>
                </a:solidFill>
                <a:latin typeface="Comic Sans MS"/>
              </a:rPr>
              <a:t>Why should college students be required to take two years of a foreign languag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42900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Chemistry majors should be exempt from the foreign language requirem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762120"/>
            <a:ext cx="777240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Don’t just announce your subject matter or describe your intention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State an attitude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90720" y="53352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subject of this essay is my experience with a pet boa constri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40384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is is an announcement of the subject, not a thes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533520"/>
            <a:ext cx="7772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I’m going to discuss boa constrictors as p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40384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is represents a statement of intentions, but not a thes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0720" y="533520"/>
            <a:ext cx="7772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Boa constrictors do not make healthy indoor p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4290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e writer states an opinion that will be explained and defended in the ess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65736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My pet boa constrictor, Sir Pent, was a much better bodyguard than my dog, Fa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34290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e writer states an opinion that will be explained and illustrated in the ess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304920"/>
            <a:ext cx="777240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Don’t clutter your thesis with expressions such as </a:t>
            </a:r>
            <a:r>
              <a:rPr b="0" lang="en-US" sz="5400" spc="-1" strike="noStrike">
                <a:solidFill>
                  <a:srgbClr val="3694b6"/>
                </a:solidFill>
                <a:latin typeface="Cooper Black"/>
              </a:rPr>
              <a:t>“in my opinion”        “I believe”</a:t>
            </a:r>
            <a:br>
              <a:rPr sz="5400"/>
            </a:br>
            <a:r>
              <a:rPr b="0" lang="en-US" sz="5400" spc="-1" strike="noStrike">
                <a:solidFill>
                  <a:srgbClr val="3694b6"/>
                </a:solidFill>
                <a:latin typeface="Cooper Black"/>
              </a:rPr>
              <a:t>“in this essay I’ll argue that…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76212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These unnecessary phrases weaken your thesis statement because they often sound timid or uncertai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22:24:40Z</dcterms:created>
  <dc:creator>Art Belliveau</dc:creator>
  <dc:description/>
  <dc:language>en-US</dc:language>
  <cp:lastModifiedBy>Angie</cp:lastModifiedBy>
  <dcterms:modified xsi:type="dcterms:W3CDTF">2009-05-07T04:53:08Z</dcterms:modified>
  <cp:revision>24</cp:revision>
  <dc:subject/>
  <dc:title>PowerPoint Presentation</dc:title>
</cp:coreProperties>
</file>